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F8C-1283-418C-A3C1-D37CE431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000-C7AC-4BF1-9961-5A3A95A6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142-B04E-4BAE-9164-1527D0A3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0A6-26B6-4667-8011-E98794EE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865C-EF8C-4CFC-BAEF-FE8701C8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22B9-87D8-4E1F-96DD-4BB56E3A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C38A-0A1D-4F39-8A8E-1B79562C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6A35-2620-464F-9019-BAB2B104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D6ED-B69C-48FA-B44E-AF648619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176F-85BC-4125-8F82-6BAB25C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C044-7429-4F85-9A5B-386FADA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C3E-D87F-46BA-9E30-B728776E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D9B9-744F-4C4B-85D4-92A5FA5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4436-B4DA-4A46-8AB6-52B9D11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5FA-61DB-4961-A7C5-24176A7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29AD-A882-489A-9AE2-D1AE849D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3CD2-1819-4422-9A43-9BFFE8A8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020-F226-41E9-8858-6173F6C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6431-4AFC-40BD-A4E1-10884F93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9CD-D66A-495F-B149-F5A1067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CC3-1B11-4E9D-945A-824E445D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8B2-6350-4305-A4F4-14E1F4E1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4E0-0969-41B0-8DF4-2C4F9A23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0B3-649A-4433-8093-FE6EF95C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79000" y="638136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fld id="{DB75F79C-6856-477F-97E6-7FCCDE9F31F3}" type="datetime3">
              <a:rPr b="0" lang="en-US" sz="1200" spc="-1" strike="noStrike">
                <a:solidFill>
                  <a:srgbClr val="000000"/>
                </a:solidFill>
                <a:latin typeface="Arial Narrow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272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200" y="637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CD74F9B9-B5B1-4EC7-8DF6-423E995E3023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fld id="{C51E1709-148A-40D1-95FF-45CEFF58A7B1}" type="datetime3">
              <a:rPr b="0" lang="en-US" sz="1200" spc="-1" strike="noStrike">
                <a:solidFill>
                  <a:srgbClr val="000000"/>
                </a:solidFill>
                <a:latin typeface="Arial Narrow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31690106-93D9-44AD-88AF-83C6F5B659A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ic Software Plat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4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hias Pun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January 19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, 200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94CC-512C-42B2-AB13-C45D69A8F77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281952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prietary Servi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ce (print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209680"/>
            <a:ext cx="6019920" cy="366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53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85800" y="2209680"/>
            <a:ext cx="685800" cy="29718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579-1F00-425C-AAFF-A5DE011C2E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3429000"/>
            <a:ext cx="4191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 level star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/Start of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ming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of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disp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1981080"/>
            <a:ext cx="1524240" cy="838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71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5800" y="1981080"/>
            <a:ext cx="2666880" cy="289584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F5A-335D-4AEA-B970-2BD95B6F57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124080"/>
            <a:ext cx="44960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d messages to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eive messages from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agnose and crash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dle CPU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re CPU state at crash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I to handle errors/warn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2057400"/>
            <a:ext cx="198108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89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43000" y="2057400"/>
            <a:ext cx="2133720" cy="29718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3A9-52D3-44CF-9918-9B2ED9A86E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3352680"/>
            <a:ext cx="4191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tool connectiv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ss to UART, USB,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06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86200" y="1981080"/>
            <a:ext cx="1143000" cy="824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port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81080"/>
            <a:ext cx="2438280" cy="3353040"/>
          </a:xfrm>
          <a:custGeom>
            <a:avLst/>
            <a:gdLst/>
            <a:ahLst/>
            <a:rect l="l" t="t" r="r" b="b"/>
            <a:pathLst>
              <a:path w="1016" h="1824">
                <a:moveTo>
                  <a:pt x="392" y="1824"/>
                </a:moveTo>
                <a:cubicBezTo>
                  <a:pt x="196" y="1400"/>
                  <a:pt x="0" y="976"/>
                  <a:pt x="104" y="672"/>
                </a:cubicBezTo>
                <a:cubicBezTo>
                  <a:pt x="208" y="368"/>
                  <a:pt x="612" y="184"/>
                  <a:pt x="101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DF7-39C7-458E-B935-143F800F41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267080" y="3352680"/>
            <a:ext cx="43434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interface to RTO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level memor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8080" y="1447920"/>
            <a:ext cx="7294680" cy="1724040"/>
            <a:chOff x="838080" y="1447920"/>
            <a:chExt cx="7294680" cy="1724040"/>
          </a:xfrm>
        </p:grpSpPr>
        <p:sp>
          <p:nvSpPr>
            <p:cNvPr id="322" name=""/>
            <p:cNvSpPr/>
            <p:nvPr/>
          </p:nvSpPr>
          <p:spPr>
            <a:xfrm>
              <a:off x="1133640" y="2622600"/>
              <a:ext cx="541008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 Abstraction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33640" y="2565360"/>
              <a:ext cx="5410080" cy="4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33640" y="1936800"/>
              <a:ext cx="662940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668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80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89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098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910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719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863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672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484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93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102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1447920"/>
              <a:ext cx="7294680" cy="595080"/>
            </a:xfrm>
            <a:custGeom>
              <a:avLst/>
              <a:gdLst/>
              <a:ahLst/>
              <a:rect l="l" t="t" r="r" b="b"/>
              <a:pathLst>
                <a:path w="4595" h="375">
                  <a:moveTo>
                    <a:pt x="37" y="335"/>
                  </a:moveTo>
                  <a:cubicBezTo>
                    <a:pt x="209" y="349"/>
                    <a:pt x="376" y="353"/>
                    <a:pt x="549" y="356"/>
                  </a:cubicBezTo>
                  <a:cubicBezTo>
                    <a:pt x="759" y="343"/>
                    <a:pt x="998" y="365"/>
                    <a:pt x="1199" y="367"/>
                  </a:cubicBezTo>
                  <a:cubicBezTo>
                    <a:pt x="1284" y="365"/>
                    <a:pt x="1386" y="372"/>
                    <a:pt x="1474" y="351"/>
                  </a:cubicBezTo>
                  <a:cubicBezTo>
                    <a:pt x="1671" y="358"/>
                    <a:pt x="1868" y="349"/>
                    <a:pt x="2066" y="346"/>
                  </a:cubicBezTo>
                  <a:cubicBezTo>
                    <a:pt x="2242" y="350"/>
                    <a:pt x="2414" y="347"/>
                    <a:pt x="2589" y="335"/>
                  </a:cubicBezTo>
                  <a:cubicBezTo>
                    <a:pt x="2737" y="343"/>
                    <a:pt x="2672" y="338"/>
                    <a:pt x="2816" y="351"/>
                  </a:cubicBezTo>
                  <a:cubicBezTo>
                    <a:pt x="2834" y="353"/>
                    <a:pt x="2869" y="356"/>
                    <a:pt x="2869" y="356"/>
                  </a:cubicBezTo>
                  <a:cubicBezTo>
                    <a:pt x="2954" y="375"/>
                    <a:pt x="3042" y="365"/>
                    <a:pt x="3128" y="362"/>
                  </a:cubicBezTo>
                  <a:cubicBezTo>
                    <a:pt x="3478" y="370"/>
                    <a:pt x="3824" y="363"/>
                    <a:pt x="4174" y="356"/>
                  </a:cubicBezTo>
                  <a:cubicBezTo>
                    <a:pt x="4236" y="352"/>
                    <a:pt x="4298" y="349"/>
                    <a:pt x="4359" y="341"/>
                  </a:cubicBezTo>
                  <a:cubicBezTo>
                    <a:pt x="4391" y="329"/>
                    <a:pt x="4386" y="309"/>
                    <a:pt x="4407" y="288"/>
                  </a:cubicBezTo>
                  <a:cubicBezTo>
                    <a:pt x="4424" y="271"/>
                    <a:pt x="4448" y="266"/>
                    <a:pt x="4470" y="261"/>
                  </a:cubicBezTo>
                  <a:cubicBezTo>
                    <a:pt x="4488" y="250"/>
                    <a:pt x="4498" y="236"/>
                    <a:pt x="4518" y="230"/>
                  </a:cubicBezTo>
                  <a:cubicBezTo>
                    <a:pt x="4523" y="225"/>
                    <a:pt x="4528" y="219"/>
                    <a:pt x="4534" y="214"/>
                  </a:cubicBezTo>
                  <a:cubicBezTo>
                    <a:pt x="4544" y="206"/>
                    <a:pt x="4565" y="193"/>
                    <a:pt x="4565" y="193"/>
                  </a:cubicBezTo>
                  <a:cubicBezTo>
                    <a:pt x="4579" y="173"/>
                    <a:pt x="4585" y="152"/>
                    <a:pt x="4592" y="129"/>
                  </a:cubicBezTo>
                  <a:cubicBezTo>
                    <a:pt x="4590" y="113"/>
                    <a:pt x="4595" y="96"/>
                    <a:pt x="4587" y="82"/>
                  </a:cubicBezTo>
                  <a:cubicBezTo>
                    <a:pt x="4575" y="61"/>
                    <a:pt x="4543" y="59"/>
                    <a:pt x="4523" y="55"/>
                  </a:cubicBezTo>
                  <a:cubicBezTo>
                    <a:pt x="4300" y="63"/>
                    <a:pt x="4080" y="61"/>
                    <a:pt x="3857" y="50"/>
                  </a:cubicBezTo>
                  <a:cubicBezTo>
                    <a:pt x="3506" y="53"/>
                    <a:pt x="3161" y="63"/>
                    <a:pt x="2811" y="55"/>
                  </a:cubicBezTo>
                  <a:cubicBezTo>
                    <a:pt x="2711" y="45"/>
                    <a:pt x="2611" y="38"/>
                    <a:pt x="2510" y="34"/>
                  </a:cubicBezTo>
                  <a:cubicBezTo>
                    <a:pt x="2393" y="20"/>
                    <a:pt x="2453" y="26"/>
                    <a:pt x="2330" y="18"/>
                  </a:cubicBezTo>
                  <a:cubicBezTo>
                    <a:pt x="2217" y="0"/>
                    <a:pt x="2101" y="8"/>
                    <a:pt x="1987" y="13"/>
                  </a:cubicBezTo>
                  <a:cubicBezTo>
                    <a:pt x="1918" y="24"/>
                    <a:pt x="1852" y="26"/>
                    <a:pt x="1781" y="29"/>
                  </a:cubicBezTo>
                  <a:cubicBezTo>
                    <a:pt x="1527" y="53"/>
                    <a:pt x="1191" y="32"/>
                    <a:pt x="956" y="34"/>
                  </a:cubicBezTo>
                  <a:cubicBezTo>
                    <a:pt x="893" y="38"/>
                    <a:pt x="833" y="45"/>
                    <a:pt x="771" y="55"/>
                  </a:cubicBezTo>
                  <a:cubicBezTo>
                    <a:pt x="642" y="75"/>
                    <a:pt x="505" y="66"/>
                    <a:pt x="375" y="71"/>
                  </a:cubicBezTo>
                  <a:cubicBezTo>
                    <a:pt x="320" y="84"/>
                    <a:pt x="266" y="100"/>
                    <a:pt x="211" y="113"/>
                  </a:cubicBezTo>
                  <a:cubicBezTo>
                    <a:pt x="196" y="128"/>
                    <a:pt x="185" y="138"/>
                    <a:pt x="164" y="145"/>
                  </a:cubicBezTo>
                  <a:cubicBezTo>
                    <a:pt x="159" y="150"/>
                    <a:pt x="154" y="156"/>
                    <a:pt x="148" y="161"/>
                  </a:cubicBezTo>
                  <a:cubicBezTo>
                    <a:pt x="138" y="169"/>
                    <a:pt x="116" y="182"/>
                    <a:pt x="116" y="182"/>
                  </a:cubicBezTo>
                  <a:cubicBezTo>
                    <a:pt x="100" y="206"/>
                    <a:pt x="78" y="217"/>
                    <a:pt x="53" y="230"/>
                  </a:cubicBezTo>
                  <a:cubicBezTo>
                    <a:pt x="37" y="252"/>
                    <a:pt x="15" y="264"/>
                    <a:pt x="0" y="288"/>
                  </a:cubicBezTo>
                  <a:cubicBezTo>
                    <a:pt x="3" y="293"/>
                    <a:pt x="6" y="299"/>
                    <a:pt x="10" y="304"/>
                  </a:cubicBezTo>
                  <a:cubicBezTo>
                    <a:pt x="15" y="310"/>
                    <a:pt x="22" y="313"/>
                    <a:pt x="26" y="319"/>
                  </a:cubicBezTo>
                  <a:cubicBezTo>
                    <a:pt x="29" y="324"/>
                    <a:pt x="28" y="330"/>
                    <a:pt x="31" y="335"/>
                  </a:cubicBezTo>
                  <a:cubicBezTo>
                    <a:pt x="32" y="337"/>
                    <a:pt x="35" y="335"/>
                    <a:pt x="37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2080" y="2610000"/>
              <a:ext cx="6069240" cy="561960"/>
            </a:xfrm>
            <a:custGeom>
              <a:avLst/>
              <a:gdLst/>
              <a:ahLst/>
              <a:rect l="l" t="t" r="r" b="b"/>
              <a:pathLst>
                <a:path w="3823" h="354">
                  <a:moveTo>
                    <a:pt x="40" y="195"/>
                  </a:moveTo>
                  <a:cubicBezTo>
                    <a:pt x="92" y="202"/>
                    <a:pt x="140" y="211"/>
                    <a:pt x="193" y="216"/>
                  </a:cubicBezTo>
                  <a:cubicBezTo>
                    <a:pt x="238" y="233"/>
                    <a:pt x="266" y="225"/>
                    <a:pt x="320" y="222"/>
                  </a:cubicBezTo>
                  <a:cubicBezTo>
                    <a:pt x="375" y="201"/>
                    <a:pt x="309" y="224"/>
                    <a:pt x="452" y="222"/>
                  </a:cubicBezTo>
                  <a:cubicBezTo>
                    <a:pt x="565" y="221"/>
                    <a:pt x="790" y="211"/>
                    <a:pt x="790" y="211"/>
                  </a:cubicBezTo>
                  <a:cubicBezTo>
                    <a:pt x="834" y="213"/>
                    <a:pt x="878" y="214"/>
                    <a:pt x="922" y="216"/>
                  </a:cubicBezTo>
                  <a:cubicBezTo>
                    <a:pt x="994" y="219"/>
                    <a:pt x="1139" y="227"/>
                    <a:pt x="1139" y="227"/>
                  </a:cubicBezTo>
                  <a:cubicBezTo>
                    <a:pt x="1239" y="239"/>
                    <a:pt x="1336" y="219"/>
                    <a:pt x="1435" y="211"/>
                  </a:cubicBezTo>
                  <a:cubicBezTo>
                    <a:pt x="1518" y="216"/>
                    <a:pt x="1601" y="227"/>
                    <a:pt x="1683" y="237"/>
                  </a:cubicBezTo>
                  <a:cubicBezTo>
                    <a:pt x="1891" y="232"/>
                    <a:pt x="2099" y="232"/>
                    <a:pt x="2307" y="227"/>
                  </a:cubicBezTo>
                  <a:cubicBezTo>
                    <a:pt x="2388" y="225"/>
                    <a:pt x="2550" y="216"/>
                    <a:pt x="2550" y="216"/>
                  </a:cubicBezTo>
                  <a:cubicBezTo>
                    <a:pt x="2695" y="219"/>
                    <a:pt x="2830" y="227"/>
                    <a:pt x="2973" y="232"/>
                  </a:cubicBezTo>
                  <a:cubicBezTo>
                    <a:pt x="3102" y="228"/>
                    <a:pt x="3109" y="229"/>
                    <a:pt x="3200" y="216"/>
                  </a:cubicBezTo>
                  <a:cubicBezTo>
                    <a:pt x="3342" y="225"/>
                    <a:pt x="3342" y="227"/>
                    <a:pt x="3527" y="216"/>
                  </a:cubicBezTo>
                  <a:cubicBezTo>
                    <a:pt x="3538" y="215"/>
                    <a:pt x="3559" y="206"/>
                    <a:pt x="3559" y="206"/>
                  </a:cubicBezTo>
                  <a:cubicBezTo>
                    <a:pt x="3575" y="182"/>
                    <a:pt x="3609" y="159"/>
                    <a:pt x="3633" y="142"/>
                  </a:cubicBezTo>
                  <a:cubicBezTo>
                    <a:pt x="3649" y="118"/>
                    <a:pt x="3677" y="108"/>
                    <a:pt x="3691" y="89"/>
                  </a:cubicBezTo>
                  <a:cubicBezTo>
                    <a:pt x="3703" y="73"/>
                    <a:pt x="3716" y="58"/>
                    <a:pt x="3728" y="42"/>
                  </a:cubicBezTo>
                  <a:cubicBezTo>
                    <a:pt x="3736" y="32"/>
                    <a:pt x="3737" y="14"/>
                    <a:pt x="3749" y="10"/>
                  </a:cubicBezTo>
                  <a:cubicBezTo>
                    <a:pt x="3760" y="7"/>
                    <a:pt x="3781" y="0"/>
                    <a:pt x="3781" y="0"/>
                  </a:cubicBezTo>
                  <a:cubicBezTo>
                    <a:pt x="3802" y="5"/>
                    <a:pt x="3804" y="0"/>
                    <a:pt x="3813" y="21"/>
                  </a:cubicBezTo>
                  <a:cubicBezTo>
                    <a:pt x="3817" y="31"/>
                    <a:pt x="3823" y="52"/>
                    <a:pt x="3823" y="52"/>
                  </a:cubicBezTo>
                  <a:cubicBezTo>
                    <a:pt x="3811" y="90"/>
                    <a:pt x="3789" y="139"/>
                    <a:pt x="3755" y="163"/>
                  </a:cubicBezTo>
                  <a:cubicBezTo>
                    <a:pt x="3749" y="168"/>
                    <a:pt x="3740" y="169"/>
                    <a:pt x="3734" y="174"/>
                  </a:cubicBezTo>
                  <a:cubicBezTo>
                    <a:pt x="3661" y="234"/>
                    <a:pt x="3730" y="188"/>
                    <a:pt x="3686" y="216"/>
                  </a:cubicBezTo>
                  <a:cubicBezTo>
                    <a:pt x="3628" y="304"/>
                    <a:pt x="3492" y="316"/>
                    <a:pt x="3395" y="317"/>
                  </a:cubicBezTo>
                  <a:cubicBezTo>
                    <a:pt x="3045" y="320"/>
                    <a:pt x="2694" y="320"/>
                    <a:pt x="2344" y="322"/>
                  </a:cubicBezTo>
                  <a:cubicBezTo>
                    <a:pt x="2256" y="335"/>
                    <a:pt x="2168" y="345"/>
                    <a:pt x="2079" y="354"/>
                  </a:cubicBezTo>
                  <a:cubicBezTo>
                    <a:pt x="1965" y="350"/>
                    <a:pt x="1850" y="347"/>
                    <a:pt x="1736" y="343"/>
                  </a:cubicBezTo>
                  <a:cubicBezTo>
                    <a:pt x="1638" y="340"/>
                    <a:pt x="1538" y="316"/>
                    <a:pt x="1440" y="306"/>
                  </a:cubicBezTo>
                  <a:cubicBezTo>
                    <a:pt x="1319" y="309"/>
                    <a:pt x="1201" y="316"/>
                    <a:pt x="1081" y="327"/>
                  </a:cubicBezTo>
                  <a:cubicBezTo>
                    <a:pt x="650" y="325"/>
                    <a:pt x="403" y="353"/>
                    <a:pt x="56" y="306"/>
                  </a:cubicBezTo>
                  <a:cubicBezTo>
                    <a:pt x="33" y="295"/>
                    <a:pt x="17" y="296"/>
                    <a:pt x="3" y="274"/>
                  </a:cubicBezTo>
                  <a:cubicBezTo>
                    <a:pt x="7" y="244"/>
                    <a:pt x="0" y="220"/>
                    <a:pt x="29" y="211"/>
                  </a:cubicBezTo>
                  <a:cubicBezTo>
                    <a:pt x="35" y="193"/>
                    <a:pt x="28" y="195"/>
                    <a:pt x="40" y="1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2284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40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800" y="5707080"/>
              <a:ext cx="2073240" cy="131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52840" y="5043600"/>
              <a:ext cx="158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" y="5389560"/>
              <a:ext cx="1698480" cy="3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00" y="5218200"/>
              <a:ext cx="2071800" cy="133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81360" y="5043600"/>
              <a:ext cx="190440" cy="798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133720" y="685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3D8-8FE6-4F07-9107-EB67940AC0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67080" y="3581280"/>
            <a:ext cx="43434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/threa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memor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 (send, rece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 services (single shot, period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/mu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c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85800" y="1523880"/>
            <a:ext cx="7956720" cy="1963800"/>
            <a:chOff x="685800" y="1523880"/>
            <a:chExt cx="7956720" cy="1963800"/>
          </a:xfrm>
        </p:grpSpPr>
        <p:sp>
          <p:nvSpPr>
            <p:cNvPr id="357" name=""/>
            <p:cNvSpPr/>
            <p:nvPr/>
          </p:nvSpPr>
          <p:spPr>
            <a:xfrm>
              <a:off x="907920" y="2919240"/>
              <a:ext cx="662940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07920" y="2876400"/>
              <a:ext cx="6629400" cy="4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7920" y="2081160"/>
              <a:ext cx="15242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08120" y="2081160"/>
              <a:ext cx="19814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65520" y="2081160"/>
              <a:ext cx="24386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80120" y="208116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160" y="1523880"/>
              <a:ext cx="7947360" cy="695520"/>
            </a:xfrm>
            <a:custGeom>
              <a:avLst/>
              <a:gdLst/>
              <a:ahLst/>
              <a:rect l="l" t="t" r="r" b="b"/>
              <a:pathLst>
                <a:path w="5006" h="438">
                  <a:moveTo>
                    <a:pt x="19" y="391"/>
                  </a:moveTo>
                  <a:cubicBezTo>
                    <a:pt x="60" y="388"/>
                    <a:pt x="113" y="377"/>
                    <a:pt x="156" y="385"/>
                  </a:cubicBezTo>
                  <a:cubicBezTo>
                    <a:pt x="177" y="395"/>
                    <a:pt x="192" y="401"/>
                    <a:pt x="215" y="406"/>
                  </a:cubicBezTo>
                  <a:cubicBezTo>
                    <a:pt x="332" y="402"/>
                    <a:pt x="329" y="405"/>
                    <a:pt x="405" y="391"/>
                  </a:cubicBezTo>
                  <a:cubicBezTo>
                    <a:pt x="442" y="377"/>
                    <a:pt x="479" y="403"/>
                    <a:pt x="516" y="406"/>
                  </a:cubicBezTo>
                  <a:cubicBezTo>
                    <a:pt x="560" y="409"/>
                    <a:pt x="604" y="410"/>
                    <a:pt x="648" y="412"/>
                  </a:cubicBezTo>
                  <a:cubicBezTo>
                    <a:pt x="680" y="427"/>
                    <a:pt x="714" y="430"/>
                    <a:pt x="748" y="438"/>
                  </a:cubicBezTo>
                  <a:cubicBezTo>
                    <a:pt x="845" y="431"/>
                    <a:pt x="935" y="425"/>
                    <a:pt x="1034" y="422"/>
                  </a:cubicBezTo>
                  <a:cubicBezTo>
                    <a:pt x="1075" y="415"/>
                    <a:pt x="1114" y="405"/>
                    <a:pt x="1155" y="401"/>
                  </a:cubicBezTo>
                  <a:cubicBezTo>
                    <a:pt x="1226" y="384"/>
                    <a:pt x="1183" y="392"/>
                    <a:pt x="1287" y="385"/>
                  </a:cubicBezTo>
                  <a:cubicBezTo>
                    <a:pt x="1423" y="396"/>
                    <a:pt x="1558" y="400"/>
                    <a:pt x="1694" y="391"/>
                  </a:cubicBezTo>
                  <a:cubicBezTo>
                    <a:pt x="1710" y="393"/>
                    <a:pt x="1726" y="393"/>
                    <a:pt x="1742" y="396"/>
                  </a:cubicBezTo>
                  <a:cubicBezTo>
                    <a:pt x="1756" y="398"/>
                    <a:pt x="1784" y="406"/>
                    <a:pt x="1784" y="406"/>
                  </a:cubicBezTo>
                  <a:cubicBezTo>
                    <a:pt x="1904" y="387"/>
                    <a:pt x="2028" y="403"/>
                    <a:pt x="2149" y="406"/>
                  </a:cubicBezTo>
                  <a:cubicBezTo>
                    <a:pt x="2257" y="396"/>
                    <a:pt x="2372" y="424"/>
                    <a:pt x="2476" y="385"/>
                  </a:cubicBezTo>
                  <a:cubicBezTo>
                    <a:pt x="2619" y="426"/>
                    <a:pt x="2787" y="401"/>
                    <a:pt x="2936" y="406"/>
                  </a:cubicBezTo>
                  <a:cubicBezTo>
                    <a:pt x="3013" y="417"/>
                    <a:pt x="3097" y="403"/>
                    <a:pt x="3174" y="391"/>
                  </a:cubicBezTo>
                  <a:cubicBezTo>
                    <a:pt x="3424" y="405"/>
                    <a:pt x="3290" y="400"/>
                    <a:pt x="3575" y="406"/>
                  </a:cubicBezTo>
                  <a:cubicBezTo>
                    <a:pt x="3711" y="423"/>
                    <a:pt x="3818" y="425"/>
                    <a:pt x="3967" y="428"/>
                  </a:cubicBezTo>
                  <a:cubicBezTo>
                    <a:pt x="4066" y="424"/>
                    <a:pt x="4174" y="427"/>
                    <a:pt x="4273" y="412"/>
                  </a:cubicBezTo>
                  <a:cubicBezTo>
                    <a:pt x="4355" y="384"/>
                    <a:pt x="4462" y="386"/>
                    <a:pt x="4548" y="380"/>
                  </a:cubicBezTo>
                  <a:cubicBezTo>
                    <a:pt x="4612" y="388"/>
                    <a:pt x="4670" y="416"/>
                    <a:pt x="4733" y="428"/>
                  </a:cubicBezTo>
                  <a:cubicBezTo>
                    <a:pt x="4774" y="422"/>
                    <a:pt x="4810" y="410"/>
                    <a:pt x="4849" y="401"/>
                  </a:cubicBezTo>
                  <a:cubicBezTo>
                    <a:pt x="4876" y="384"/>
                    <a:pt x="4907" y="376"/>
                    <a:pt x="4934" y="359"/>
                  </a:cubicBezTo>
                  <a:cubicBezTo>
                    <a:pt x="4941" y="348"/>
                    <a:pt x="4948" y="338"/>
                    <a:pt x="4955" y="327"/>
                  </a:cubicBezTo>
                  <a:cubicBezTo>
                    <a:pt x="4961" y="318"/>
                    <a:pt x="4965" y="296"/>
                    <a:pt x="4965" y="296"/>
                  </a:cubicBezTo>
                  <a:cubicBezTo>
                    <a:pt x="4973" y="231"/>
                    <a:pt x="5006" y="119"/>
                    <a:pt x="4928" y="95"/>
                  </a:cubicBezTo>
                  <a:cubicBezTo>
                    <a:pt x="4890" y="69"/>
                    <a:pt x="4881" y="80"/>
                    <a:pt x="4823" y="84"/>
                  </a:cubicBezTo>
                  <a:cubicBezTo>
                    <a:pt x="4713" y="109"/>
                    <a:pt x="4590" y="102"/>
                    <a:pt x="4479" y="105"/>
                  </a:cubicBezTo>
                  <a:cubicBezTo>
                    <a:pt x="4055" y="98"/>
                    <a:pt x="3644" y="77"/>
                    <a:pt x="3216" y="74"/>
                  </a:cubicBezTo>
                  <a:cubicBezTo>
                    <a:pt x="2913" y="78"/>
                    <a:pt x="2639" y="82"/>
                    <a:pt x="2334" y="79"/>
                  </a:cubicBezTo>
                  <a:cubicBezTo>
                    <a:pt x="2070" y="82"/>
                    <a:pt x="1752" y="103"/>
                    <a:pt x="1483" y="74"/>
                  </a:cubicBezTo>
                  <a:cubicBezTo>
                    <a:pt x="1287" y="0"/>
                    <a:pt x="1064" y="66"/>
                    <a:pt x="854" y="68"/>
                  </a:cubicBezTo>
                  <a:cubicBezTo>
                    <a:pt x="675" y="73"/>
                    <a:pt x="500" y="81"/>
                    <a:pt x="320" y="84"/>
                  </a:cubicBezTo>
                  <a:cubicBezTo>
                    <a:pt x="268" y="94"/>
                    <a:pt x="223" y="117"/>
                    <a:pt x="172" y="126"/>
                  </a:cubicBezTo>
                  <a:cubicBezTo>
                    <a:pt x="157" y="137"/>
                    <a:pt x="143" y="142"/>
                    <a:pt x="125" y="148"/>
                  </a:cubicBezTo>
                  <a:cubicBezTo>
                    <a:pt x="114" y="152"/>
                    <a:pt x="93" y="158"/>
                    <a:pt x="93" y="158"/>
                  </a:cubicBezTo>
                  <a:cubicBezTo>
                    <a:pt x="89" y="163"/>
                    <a:pt x="86" y="169"/>
                    <a:pt x="82" y="174"/>
                  </a:cubicBezTo>
                  <a:cubicBezTo>
                    <a:pt x="78" y="178"/>
                    <a:pt x="71" y="180"/>
                    <a:pt x="67" y="185"/>
                  </a:cubicBezTo>
                  <a:cubicBezTo>
                    <a:pt x="53" y="202"/>
                    <a:pt x="42" y="228"/>
                    <a:pt x="30" y="248"/>
                  </a:cubicBezTo>
                  <a:cubicBezTo>
                    <a:pt x="17" y="268"/>
                    <a:pt x="9" y="322"/>
                    <a:pt x="3" y="348"/>
                  </a:cubicBezTo>
                  <a:cubicBezTo>
                    <a:pt x="9" y="385"/>
                    <a:pt x="0" y="372"/>
                    <a:pt x="19" y="3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286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5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43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8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86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3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04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14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864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29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72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456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" y="3182760"/>
              <a:ext cx="7696080" cy="304920"/>
            </a:xfrm>
            <a:custGeom>
              <a:avLst/>
              <a:gdLst/>
              <a:ahLst/>
              <a:rect l="l" t="t" r="r" b="b"/>
              <a:pathLst>
                <a:path w="4336" h="192">
                  <a:moveTo>
                    <a:pt x="50" y="16"/>
                  </a:moveTo>
                  <a:cubicBezTo>
                    <a:pt x="100" y="0"/>
                    <a:pt x="128" y="7"/>
                    <a:pt x="187" y="11"/>
                  </a:cubicBezTo>
                  <a:cubicBezTo>
                    <a:pt x="240" y="21"/>
                    <a:pt x="285" y="23"/>
                    <a:pt x="341" y="26"/>
                  </a:cubicBezTo>
                  <a:cubicBezTo>
                    <a:pt x="377" y="39"/>
                    <a:pt x="390" y="38"/>
                    <a:pt x="436" y="42"/>
                  </a:cubicBezTo>
                  <a:cubicBezTo>
                    <a:pt x="599" y="23"/>
                    <a:pt x="762" y="27"/>
                    <a:pt x="922" y="58"/>
                  </a:cubicBezTo>
                  <a:cubicBezTo>
                    <a:pt x="1021" y="50"/>
                    <a:pt x="1119" y="62"/>
                    <a:pt x="1218" y="53"/>
                  </a:cubicBezTo>
                  <a:cubicBezTo>
                    <a:pt x="1253" y="43"/>
                    <a:pt x="1288" y="29"/>
                    <a:pt x="1324" y="21"/>
                  </a:cubicBezTo>
                  <a:cubicBezTo>
                    <a:pt x="1369" y="26"/>
                    <a:pt x="1406" y="38"/>
                    <a:pt x="1450" y="48"/>
                  </a:cubicBezTo>
                  <a:cubicBezTo>
                    <a:pt x="1478" y="55"/>
                    <a:pt x="1558" y="57"/>
                    <a:pt x="1572" y="58"/>
                  </a:cubicBezTo>
                  <a:cubicBezTo>
                    <a:pt x="1678" y="56"/>
                    <a:pt x="1783" y="56"/>
                    <a:pt x="1889" y="53"/>
                  </a:cubicBezTo>
                  <a:cubicBezTo>
                    <a:pt x="1928" y="52"/>
                    <a:pt x="2005" y="37"/>
                    <a:pt x="2005" y="37"/>
                  </a:cubicBezTo>
                  <a:cubicBezTo>
                    <a:pt x="2111" y="40"/>
                    <a:pt x="2208" y="47"/>
                    <a:pt x="2312" y="53"/>
                  </a:cubicBezTo>
                  <a:cubicBezTo>
                    <a:pt x="2507" y="50"/>
                    <a:pt x="2612" y="47"/>
                    <a:pt x="2777" y="37"/>
                  </a:cubicBezTo>
                  <a:cubicBezTo>
                    <a:pt x="2839" y="17"/>
                    <a:pt x="2904" y="39"/>
                    <a:pt x="2967" y="42"/>
                  </a:cubicBezTo>
                  <a:cubicBezTo>
                    <a:pt x="3045" y="45"/>
                    <a:pt x="3122" y="46"/>
                    <a:pt x="3200" y="48"/>
                  </a:cubicBezTo>
                  <a:cubicBezTo>
                    <a:pt x="3309" y="46"/>
                    <a:pt x="3418" y="47"/>
                    <a:pt x="3527" y="42"/>
                  </a:cubicBezTo>
                  <a:cubicBezTo>
                    <a:pt x="3541" y="41"/>
                    <a:pt x="3569" y="32"/>
                    <a:pt x="3569" y="32"/>
                  </a:cubicBezTo>
                  <a:cubicBezTo>
                    <a:pt x="3779" y="35"/>
                    <a:pt x="3980" y="43"/>
                    <a:pt x="4188" y="37"/>
                  </a:cubicBezTo>
                  <a:cubicBezTo>
                    <a:pt x="4214" y="39"/>
                    <a:pt x="4266" y="33"/>
                    <a:pt x="4293" y="42"/>
                  </a:cubicBezTo>
                  <a:cubicBezTo>
                    <a:pt x="4300" y="40"/>
                    <a:pt x="4309" y="33"/>
                    <a:pt x="4315" y="37"/>
                  </a:cubicBezTo>
                  <a:cubicBezTo>
                    <a:pt x="4326" y="44"/>
                    <a:pt x="4336" y="69"/>
                    <a:pt x="4336" y="69"/>
                  </a:cubicBezTo>
                  <a:cubicBezTo>
                    <a:pt x="4314" y="129"/>
                    <a:pt x="4179" y="147"/>
                    <a:pt x="4124" y="153"/>
                  </a:cubicBezTo>
                  <a:cubicBezTo>
                    <a:pt x="3962" y="190"/>
                    <a:pt x="4133" y="153"/>
                    <a:pt x="3686" y="153"/>
                  </a:cubicBezTo>
                  <a:cubicBezTo>
                    <a:pt x="3373" y="153"/>
                    <a:pt x="3058" y="165"/>
                    <a:pt x="2745" y="169"/>
                  </a:cubicBezTo>
                  <a:cubicBezTo>
                    <a:pt x="2597" y="192"/>
                    <a:pt x="2396" y="163"/>
                    <a:pt x="2243" y="159"/>
                  </a:cubicBezTo>
                  <a:cubicBezTo>
                    <a:pt x="2151" y="144"/>
                    <a:pt x="2056" y="147"/>
                    <a:pt x="1963" y="143"/>
                  </a:cubicBezTo>
                  <a:cubicBezTo>
                    <a:pt x="1887" y="132"/>
                    <a:pt x="1812" y="123"/>
                    <a:pt x="1736" y="116"/>
                  </a:cubicBezTo>
                  <a:cubicBezTo>
                    <a:pt x="1558" y="123"/>
                    <a:pt x="1384" y="134"/>
                    <a:pt x="1207" y="148"/>
                  </a:cubicBezTo>
                  <a:cubicBezTo>
                    <a:pt x="975" y="145"/>
                    <a:pt x="760" y="152"/>
                    <a:pt x="531" y="159"/>
                  </a:cubicBezTo>
                  <a:cubicBezTo>
                    <a:pt x="395" y="168"/>
                    <a:pt x="260" y="161"/>
                    <a:pt x="124" y="153"/>
                  </a:cubicBezTo>
                  <a:cubicBezTo>
                    <a:pt x="81" y="143"/>
                    <a:pt x="44" y="132"/>
                    <a:pt x="2" y="116"/>
                  </a:cubicBezTo>
                  <a:cubicBezTo>
                    <a:pt x="7" y="70"/>
                    <a:pt x="0" y="58"/>
                    <a:pt x="39" y="42"/>
                  </a:cubicBezTo>
                  <a:cubicBezTo>
                    <a:pt x="52" y="23"/>
                    <a:pt x="50" y="32"/>
                    <a:pt x="5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8480" y="25891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79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5707080"/>
              <a:ext cx="2073240" cy="131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800" y="5218200"/>
              <a:ext cx="209088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9880" y="5043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133720" y="685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35C-2541-4732-ADC3-1357D3DCE5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365760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tware Entity Interface (SE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interface of a softwar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EI needs to be implemented in each GSP based softwar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 functions are exported by the software entity (not statically lin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752480" y="1676520"/>
            <a:ext cx="6212160" cy="1711080"/>
            <a:chOff x="1752480" y="1676520"/>
            <a:chExt cx="6212160" cy="1711080"/>
          </a:xfrm>
        </p:grpSpPr>
        <p:sp>
          <p:nvSpPr>
            <p:cNvPr id="397" name=""/>
            <p:cNvSpPr/>
            <p:nvPr/>
          </p:nvSpPr>
          <p:spPr>
            <a:xfrm>
              <a:off x="2438280" y="2311560"/>
              <a:ext cx="2210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52480" y="2235240"/>
              <a:ext cx="1524240" cy="83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2680" y="2692440"/>
              <a:ext cx="6098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2680" y="2235240"/>
              <a:ext cx="6098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2692440"/>
              <a:ext cx="2438280" cy="380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2235240"/>
              <a:ext cx="274320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5960" y="1676520"/>
              <a:ext cx="1768680" cy="1711080"/>
            </a:xfrm>
            <a:custGeom>
              <a:avLst/>
              <a:gdLst/>
              <a:ahLst/>
              <a:rect l="l" t="t" r="r" b="b"/>
              <a:pathLst>
                <a:path w="1114" h="1078">
                  <a:moveTo>
                    <a:pt x="119" y="64"/>
                  </a:moveTo>
                  <a:cubicBezTo>
                    <a:pt x="156" y="100"/>
                    <a:pt x="143" y="83"/>
                    <a:pt x="162" y="111"/>
                  </a:cubicBezTo>
                  <a:cubicBezTo>
                    <a:pt x="156" y="128"/>
                    <a:pt x="146" y="142"/>
                    <a:pt x="140" y="159"/>
                  </a:cubicBezTo>
                  <a:cubicBezTo>
                    <a:pt x="152" y="219"/>
                    <a:pt x="148" y="248"/>
                    <a:pt x="130" y="307"/>
                  </a:cubicBezTo>
                  <a:cubicBezTo>
                    <a:pt x="125" y="342"/>
                    <a:pt x="115" y="374"/>
                    <a:pt x="103" y="407"/>
                  </a:cubicBezTo>
                  <a:cubicBezTo>
                    <a:pt x="110" y="425"/>
                    <a:pt x="105" y="447"/>
                    <a:pt x="114" y="465"/>
                  </a:cubicBezTo>
                  <a:cubicBezTo>
                    <a:pt x="124" y="484"/>
                    <a:pt x="145" y="495"/>
                    <a:pt x="156" y="513"/>
                  </a:cubicBezTo>
                  <a:cubicBezTo>
                    <a:pt x="140" y="538"/>
                    <a:pt x="112" y="553"/>
                    <a:pt x="88" y="571"/>
                  </a:cubicBezTo>
                  <a:cubicBezTo>
                    <a:pt x="78" y="579"/>
                    <a:pt x="66" y="603"/>
                    <a:pt x="66" y="603"/>
                  </a:cubicBezTo>
                  <a:cubicBezTo>
                    <a:pt x="62" y="634"/>
                    <a:pt x="62" y="647"/>
                    <a:pt x="45" y="671"/>
                  </a:cubicBezTo>
                  <a:cubicBezTo>
                    <a:pt x="32" y="711"/>
                    <a:pt x="33" y="692"/>
                    <a:pt x="40" y="729"/>
                  </a:cubicBezTo>
                  <a:cubicBezTo>
                    <a:pt x="35" y="751"/>
                    <a:pt x="27" y="761"/>
                    <a:pt x="35" y="782"/>
                  </a:cubicBezTo>
                  <a:cubicBezTo>
                    <a:pt x="27" y="804"/>
                    <a:pt x="25" y="828"/>
                    <a:pt x="19" y="851"/>
                  </a:cubicBezTo>
                  <a:cubicBezTo>
                    <a:pt x="51" y="903"/>
                    <a:pt x="0" y="827"/>
                    <a:pt x="51" y="877"/>
                  </a:cubicBezTo>
                  <a:cubicBezTo>
                    <a:pt x="60" y="886"/>
                    <a:pt x="72" y="909"/>
                    <a:pt x="72" y="909"/>
                  </a:cubicBezTo>
                  <a:cubicBezTo>
                    <a:pt x="86" y="955"/>
                    <a:pt x="144" y="967"/>
                    <a:pt x="183" y="983"/>
                  </a:cubicBezTo>
                  <a:cubicBezTo>
                    <a:pt x="230" y="1003"/>
                    <a:pt x="279" y="1029"/>
                    <a:pt x="325" y="1052"/>
                  </a:cubicBezTo>
                  <a:cubicBezTo>
                    <a:pt x="357" y="1068"/>
                    <a:pt x="341" y="1059"/>
                    <a:pt x="384" y="1068"/>
                  </a:cubicBezTo>
                  <a:cubicBezTo>
                    <a:pt x="398" y="1071"/>
                    <a:pt x="426" y="1078"/>
                    <a:pt x="426" y="1078"/>
                  </a:cubicBezTo>
                  <a:cubicBezTo>
                    <a:pt x="516" y="1068"/>
                    <a:pt x="602" y="1049"/>
                    <a:pt x="690" y="1025"/>
                  </a:cubicBezTo>
                  <a:cubicBezTo>
                    <a:pt x="726" y="1015"/>
                    <a:pt x="757" y="1000"/>
                    <a:pt x="790" y="983"/>
                  </a:cubicBezTo>
                  <a:cubicBezTo>
                    <a:pt x="803" y="976"/>
                    <a:pt x="827" y="957"/>
                    <a:pt x="827" y="957"/>
                  </a:cubicBezTo>
                  <a:cubicBezTo>
                    <a:pt x="853" y="921"/>
                    <a:pt x="887" y="890"/>
                    <a:pt x="917" y="856"/>
                  </a:cubicBezTo>
                  <a:cubicBezTo>
                    <a:pt x="932" y="839"/>
                    <a:pt x="960" y="803"/>
                    <a:pt x="960" y="803"/>
                  </a:cubicBezTo>
                  <a:cubicBezTo>
                    <a:pt x="967" y="782"/>
                    <a:pt x="985" y="766"/>
                    <a:pt x="991" y="745"/>
                  </a:cubicBezTo>
                  <a:cubicBezTo>
                    <a:pt x="999" y="718"/>
                    <a:pt x="995" y="688"/>
                    <a:pt x="1002" y="661"/>
                  </a:cubicBezTo>
                  <a:cubicBezTo>
                    <a:pt x="1011" y="628"/>
                    <a:pt x="1039" y="586"/>
                    <a:pt x="1055" y="555"/>
                  </a:cubicBezTo>
                  <a:cubicBezTo>
                    <a:pt x="1065" y="512"/>
                    <a:pt x="1083" y="470"/>
                    <a:pt x="1097" y="428"/>
                  </a:cubicBezTo>
                  <a:cubicBezTo>
                    <a:pt x="1114" y="299"/>
                    <a:pt x="1101" y="188"/>
                    <a:pt x="960" y="143"/>
                  </a:cubicBezTo>
                  <a:cubicBezTo>
                    <a:pt x="890" y="92"/>
                    <a:pt x="819" y="54"/>
                    <a:pt x="738" y="27"/>
                  </a:cubicBezTo>
                  <a:cubicBezTo>
                    <a:pt x="720" y="21"/>
                    <a:pt x="694" y="6"/>
                    <a:pt x="674" y="5"/>
                  </a:cubicBezTo>
                  <a:cubicBezTo>
                    <a:pt x="614" y="2"/>
                    <a:pt x="555" y="2"/>
                    <a:pt x="495" y="0"/>
                  </a:cubicBezTo>
                  <a:cubicBezTo>
                    <a:pt x="416" y="4"/>
                    <a:pt x="340" y="13"/>
                    <a:pt x="262" y="21"/>
                  </a:cubicBezTo>
                  <a:cubicBezTo>
                    <a:pt x="218" y="34"/>
                    <a:pt x="174" y="39"/>
                    <a:pt x="130" y="53"/>
                  </a:cubicBezTo>
                  <a:cubicBezTo>
                    <a:pt x="118" y="70"/>
                    <a:pt x="119" y="75"/>
                    <a:pt x="119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24080" y="243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24080" y="2895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407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5800" y="5707080"/>
              <a:ext cx="2076480" cy="133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5541840"/>
              <a:ext cx="1690560" cy="13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375160"/>
              <a:ext cx="169056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0480" y="5375160"/>
              <a:ext cx="357120" cy="298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800" y="5210280"/>
              <a:ext cx="2071800" cy="133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" y="487836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52840" y="5045040"/>
              <a:ext cx="158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85840" y="5046840"/>
              <a:ext cx="66600" cy="13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68280" y="5045040"/>
              <a:ext cx="53676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5018040"/>
              <a:ext cx="547560" cy="163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0480" y="504504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81360" y="5045040"/>
              <a:ext cx="190440" cy="79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1160" y="4876920"/>
              <a:ext cx="65160" cy="13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65400" y="4878360"/>
              <a:ext cx="170640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9AD-54AC-4B11-BFE0-CD43B5BB9D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change of Operating 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743200" y="2057400"/>
            <a:ext cx="5715000" cy="2195640"/>
            <a:chOff x="2743200" y="2057400"/>
            <a:chExt cx="5715000" cy="2195640"/>
          </a:xfrm>
        </p:grpSpPr>
        <p:sp>
          <p:nvSpPr>
            <p:cNvPr id="424" name=""/>
            <p:cNvSpPr/>
            <p:nvPr/>
          </p:nvSpPr>
          <p:spPr>
            <a:xfrm>
              <a:off x="2743200" y="3994200"/>
              <a:ext cx="5715000" cy="258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3200" y="3657600"/>
              <a:ext cx="5181480" cy="258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cleus 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43200" y="3352680"/>
              <a:ext cx="4227480" cy="258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cleus R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3200" y="3048120"/>
              <a:ext cx="4227480" cy="258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 Layer Nucle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31160" y="3025800"/>
              <a:ext cx="892080" cy="5810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or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3200" y="2703600"/>
              <a:ext cx="5180040" cy="258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43200" y="2057400"/>
              <a:ext cx="1190520" cy="592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4200" y="2379600"/>
              <a:ext cx="1547640" cy="27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00880" y="2325600"/>
              <a:ext cx="1369800" cy="32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31160" y="2379600"/>
              <a:ext cx="950760" cy="270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81920" y="2379600"/>
              <a:ext cx="476280" cy="152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94200" y="2057400"/>
              <a:ext cx="4464000" cy="258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14120" y="236232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20" y="3048120"/>
            <a:ext cx="2057400" cy="855720"/>
            <a:chOff x="304920" y="3048120"/>
            <a:chExt cx="2057400" cy="855720"/>
          </a:xfrm>
        </p:grpSpPr>
        <p:sp>
          <p:nvSpPr>
            <p:cNvPr id="438" name=""/>
            <p:cNvSpPr/>
            <p:nvPr/>
          </p:nvSpPr>
          <p:spPr>
            <a:xfrm>
              <a:off x="304920" y="3657600"/>
              <a:ext cx="2057400" cy="246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ux 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20" y="3352680"/>
              <a:ext cx="1455480" cy="258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ux 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920" y="3048120"/>
              <a:ext cx="1455480" cy="258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 Layer Lin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1337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4572000"/>
            <a:ext cx="716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ging from Nucleus to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change OS Layer, RTOS and B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software and major parts of GSP remain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263-357F-4404-9990-ECC175A529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Test and Debug Function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925560" y="2057400"/>
            <a:ext cx="4343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4800600"/>
            <a:ext cx="746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age Duplic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onitor communication in P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age Redire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run test scripts with T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c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iew debug information in printf() format in P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filters are set dynamically (not at compile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429000" y="1828800"/>
            <a:ext cx="1981080" cy="2895480"/>
            <a:chOff x="3429000" y="1828800"/>
            <a:chExt cx="1981080" cy="2895480"/>
          </a:xfrm>
        </p:grpSpPr>
        <p:sp>
          <p:nvSpPr>
            <p:cNvPr id="447" name=""/>
            <p:cNvSpPr/>
            <p:nvPr/>
          </p:nvSpPr>
          <p:spPr>
            <a:xfrm>
              <a:off x="4724280" y="2286000"/>
              <a:ext cx="685800" cy="1600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29000" y="38098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9000" y="18288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281952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886200" y="251424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86200" y="35053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86200" y="327672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886200" y="251460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886200" y="42670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85800" y="1752480"/>
            <a:ext cx="1981080" cy="2590920"/>
            <a:chOff x="685800" y="1752480"/>
            <a:chExt cx="1981080" cy="2590920"/>
          </a:xfrm>
        </p:grpSpPr>
        <p:sp>
          <p:nvSpPr>
            <p:cNvPr id="457" name=""/>
            <p:cNvSpPr/>
            <p:nvPr/>
          </p:nvSpPr>
          <p:spPr>
            <a:xfrm>
              <a:off x="685800" y="22096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5800" y="34290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143000" y="266652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30481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81080" y="2209680"/>
              <a:ext cx="685800" cy="1676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143000" y="17524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143000" y="388620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172200" y="2209680"/>
            <a:ext cx="2209680" cy="1676520"/>
            <a:chOff x="6172200" y="2209680"/>
            <a:chExt cx="2209680" cy="1676520"/>
          </a:xfrm>
        </p:grpSpPr>
        <p:sp>
          <p:nvSpPr>
            <p:cNvPr id="465" name=""/>
            <p:cNvSpPr/>
            <p:nvPr/>
          </p:nvSpPr>
          <p:spPr>
            <a:xfrm>
              <a:off x="6172200" y="22096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72200" y="34290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6600" y="2362320"/>
              <a:ext cx="609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6080" y="2209680"/>
              <a:ext cx="685800" cy="1676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38862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831-0CAC-4542-9C97-33182B623F3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Tools for Testing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343480" cy="1962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5029200" cy="3934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019920" y="3657600"/>
            <a:ext cx="3124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ce Viewer (P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lay tr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ode routed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 dynamic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144792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Application (T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 test 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0200" y="164304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18000" y="38433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F983-F1A5-4E41-8CAA-75056FA6931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Software Architectur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omponents of the Generic Software Plat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est Features of the Generic Software Plat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453A-0784-4D8F-A0B1-86A4902101C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605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GSP in Target and Tool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33520" y="2209680"/>
            <a:ext cx="3074760" cy="1752840"/>
            <a:chOff x="533520" y="2209680"/>
            <a:chExt cx="3074760" cy="1752840"/>
          </a:xfrm>
        </p:grpSpPr>
        <p:sp>
          <p:nvSpPr>
            <p:cNvPr id="480" name=""/>
            <p:cNvSpPr/>
            <p:nvPr/>
          </p:nvSpPr>
          <p:spPr>
            <a:xfrm>
              <a:off x="533520" y="3755880"/>
              <a:ext cx="307476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3498840"/>
              <a:ext cx="278280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520" y="3240000"/>
              <a:ext cx="227484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352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40040" y="2982960"/>
              <a:ext cx="47952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3520" y="272412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520" y="2209680"/>
              <a:ext cx="64116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06360" y="2467080"/>
              <a:ext cx="83196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71800" y="2425680"/>
              <a:ext cx="73656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40040" y="2467080"/>
              <a:ext cx="51264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2680" y="2467080"/>
              <a:ext cx="255600" cy="1238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0636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95720" y="2514600"/>
              <a:ext cx="18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05160" y="2209680"/>
            <a:ext cx="3048120" cy="1752840"/>
            <a:chOff x="5105160" y="2209680"/>
            <a:chExt cx="3048120" cy="1752840"/>
          </a:xfrm>
        </p:grpSpPr>
        <p:sp>
          <p:nvSpPr>
            <p:cNvPr id="494" name=""/>
            <p:cNvSpPr/>
            <p:nvPr/>
          </p:nvSpPr>
          <p:spPr>
            <a:xfrm flipH="1">
              <a:off x="5118840" y="3483000"/>
              <a:ext cx="3033720" cy="479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105520" y="3240000"/>
              <a:ext cx="304776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105520" y="2982960"/>
              <a:ext cx="78408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21280" y="2982960"/>
              <a:ext cx="14702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105520" y="2698920"/>
              <a:ext cx="2286000" cy="233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104800" y="2209680"/>
              <a:ext cx="685800" cy="439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866560" y="2209680"/>
              <a:ext cx="762120" cy="43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05000" y="2209680"/>
              <a:ext cx="685800" cy="43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466760" y="2209680"/>
              <a:ext cx="685800" cy="979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4479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913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3962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al, USB,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4572000"/>
            <a:ext cx="82296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k target system to PC via test interface and connect TAP and/or P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 message exchange between the software entities in 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 traces and routed messages sent by the software entities in 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 testcases (send a messages into the target and check the respon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tional GSP based tools can be designed to run on P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981080" y="3962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629400" y="3962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426708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5680" y="2666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21720" y="2666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BD4-24BF-4E9B-82BF-D79556E82B8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605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GSP on MCU and D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4419720"/>
            <a:ext cx="80010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P running on MCU(ARMx) and DSP(TMS320C5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P-‘light‘ on DSP due to memory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ntical GSP API on MCU and DSP for services existing on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t location (no need to know own location for most ser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t communication (no need to know location of part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523880"/>
            <a:ext cx="6737040" cy="2644920"/>
            <a:chOff x="1066680" y="1523880"/>
            <a:chExt cx="6737040" cy="2644920"/>
          </a:xfrm>
        </p:grpSpPr>
        <p:sp>
          <p:nvSpPr>
            <p:cNvPr id="515" name=""/>
            <p:cNvSpPr/>
            <p:nvPr/>
          </p:nvSpPr>
          <p:spPr>
            <a:xfrm>
              <a:off x="144792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C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00600" y="15238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066680" y="3962520"/>
              <a:ext cx="6734160" cy="206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66680" y="3755880"/>
              <a:ext cx="307512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66680" y="3498840"/>
              <a:ext cx="278316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66680" y="3240000"/>
              <a:ext cx="227484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6668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3560" y="2982960"/>
              <a:ext cx="47916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66680" y="272412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66680" y="2209680"/>
              <a:ext cx="64152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9880" y="2467080"/>
              <a:ext cx="83196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04960" y="2425680"/>
              <a:ext cx="73656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3560" y="2467080"/>
              <a:ext cx="51264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86200" y="2467080"/>
              <a:ext cx="255600" cy="1238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3988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28880" y="2514600"/>
              <a:ext cx="18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4724280" y="3755880"/>
              <a:ext cx="307512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724280" y="2467080"/>
              <a:ext cx="255600" cy="1241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953960" y="2514600"/>
              <a:ext cx="18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920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768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0120" y="3498840"/>
              <a:ext cx="278928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013360" y="2982960"/>
              <a:ext cx="47952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528520" y="3219480"/>
              <a:ext cx="22748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52384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009400" y="272880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979160" y="2467080"/>
              <a:ext cx="51300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524560" y="2425680"/>
              <a:ext cx="73800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294600" y="2467080"/>
              <a:ext cx="83160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72428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157880" y="2209680"/>
              <a:ext cx="64152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2172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FA7-DE94-4A59-B3ED-4D54416017D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ate of Generic Software Platform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>
            <a:off x="838080" y="1447920"/>
            <a:ext cx="74678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ing System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cleus (ARM, M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ux (kernel space, user space, RT Lin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ian (feasibility study 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CE (feasibility study plann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32 for test to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OS, Vxworks (currently no supp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P/BIOS (planned to run on D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interface drivers supported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ed UART (Shared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A1C-CB94-4F20-9B56-FFB6A41D6E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SP supports you i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signing operating system independent softwa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ing time to market by reuse of existing softwa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creasing software quality by using built-in test functionality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D27-646D-47D2-A49D-0EF065862D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21824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ystems Software Architectur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648320"/>
            <a:ext cx="73915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oftware running on device (protocol stack, multimedia, P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V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application drivers (use RTOS servi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TO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stracts from HW and manages resource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SP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asic HW support to boot system, low-level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W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obile phone chipset including MCU, DSP and 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2362320"/>
            <a:ext cx="7315200" cy="2119320"/>
            <a:chOff x="762120" y="2362320"/>
            <a:chExt cx="7315200" cy="2119320"/>
          </a:xfrm>
        </p:grpSpPr>
        <p:sp>
          <p:nvSpPr>
            <p:cNvPr id="91" name=""/>
            <p:cNvSpPr/>
            <p:nvPr/>
          </p:nvSpPr>
          <p:spPr>
            <a:xfrm>
              <a:off x="762120" y="4114800"/>
              <a:ext cx="7315200" cy="366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dware (H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20" y="3657600"/>
              <a:ext cx="6019560" cy="366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oard Support Package (B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3200400"/>
              <a:ext cx="6019560" cy="366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Operating System (R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2743200"/>
              <a:ext cx="523872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19520"/>
              <a:ext cx="762120" cy="29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0" y="2819520"/>
              <a:ext cx="121932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                (DR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120" y="2362320"/>
              <a:ext cx="73152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 (AP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A80-8CFD-4E84-A489-3E13CD98B6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rdware Examp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36944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gital Baseband Chip for GSM/GPRS/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oftware in a mobile phone is executed on the MCU and DSP of the Digital Baseband c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520" y="1905120"/>
            <a:ext cx="7924680" cy="3657240"/>
            <a:chOff x="533520" y="1905120"/>
            <a:chExt cx="7924680" cy="3657240"/>
          </a:xfrm>
        </p:grpSpPr>
        <p:sp>
          <p:nvSpPr>
            <p:cNvPr id="102" name=""/>
            <p:cNvSpPr/>
            <p:nvPr/>
          </p:nvSpPr>
          <p:spPr>
            <a:xfrm>
              <a:off x="1676520" y="1905120"/>
              <a:ext cx="4267080" cy="351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6720" y="3587400"/>
              <a:ext cx="1143000" cy="790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CU  ARM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2124360"/>
              <a:ext cx="1143000" cy="804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SP 320C55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3294720"/>
              <a:ext cx="914400" cy="36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05120" y="402624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5120" y="212436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855880"/>
              <a:ext cx="914400" cy="36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490428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490428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2855880"/>
              <a:ext cx="1143000" cy="804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EMORY 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8320" y="2124360"/>
              <a:ext cx="106668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2709360"/>
              <a:ext cx="1066680" cy="731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GSM  GP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3660480"/>
              <a:ext cx="1066680" cy="731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M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366048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249012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3880" y="3075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3880" y="344124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29289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886200" y="32943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32947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3148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960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BB4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2520" y="4392000"/>
              <a:ext cx="0" cy="4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514600" y="461124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439200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3075120"/>
              <a:ext cx="762120" cy="1170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3075120"/>
              <a:ext cx="762120" cy="1170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360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8152920" y="3074760"/>
              <a:ext cx="305280" cy="585720"/>
              <a:chOff x="8152920" y="3074760"/>
              <a:chExt cx="305280" cy="5857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8305560" y="3075120"/>
                <a:ext cx="0" cy="58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05560" y="3074760"/>
                <a:ext cx="15264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8152920" y="3074760"/>
                <a:ext cx="15228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514600" y="4611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732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526968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526968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E16-C460-4BDA-BB72-C1724ADA1B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pplication Software Examp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133720"/>
            <a:ext cx="403848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tware Entities running in different RTOS threads implement the GSM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based Communication between softwar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arly all software entities use RTOS services like timers, memory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s of software entities mandator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2209680"/>
            <a:ext cx="3810240" cy="3962160"/>
            <a:chOff x="609480" y="2209680"/>
            <a:chExt cx="3810240" cy="3962160"/>
          </a:xfrm>
        </p:grpSpPr>
        <p:sp>
          <p:nvSpPr>
            <p:cNvPr id="142" name=""/>
            <p:cNvSpPr/>
            <p:nvPr/>
          </p:nvSpPr>
          <p:spPr>
            <a:xfrm>
              <a:off x="1676520" y="5867280"/>
              <a:ext cx="274320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4647960"/>
              <a:ext cx="1904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480" y="4038480"/>
              <a:ext cx="38102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209680" y="495288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428640"/>
              <a:ext cx="8380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28640"/>
              <a:ext cx="83844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428640"/>
              <a:ext cx="7621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480" y="2819160"/>
              <a:ext cx="381024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209680"/>
              <a:ext cx="38102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5867280"/>
              <a:ext cx="8384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257440"/>
              <a:ext cx="16002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581280" y="5562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066680" y="434304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200400" y="4952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666880" y="4342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03848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04812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05740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05740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04812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03848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066680" y="312408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514600" y="2513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038480" y="434268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981080" y="144576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SM Protocol Stack for Mobile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B63-A05F-49F9-BA62-3AFA061607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4648320"/>
            <a:ext cx="731520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lleng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fferent operating systems need to be supported (Nucleus, Linux, Symbian, 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awback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he application software is dependent on the R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eep application software operating system in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troduction of the Generic Software Platform (G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218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ystems Software Architectur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362320"/>
            <a:ext cx="7315200" cy="2119320"/>
            <a:chOff x="762120" y="2362320"/>
            <a:chExt cx="7315200" cy="2119320"/>
          </a:xfrm>
        </p:grpSpPr>
        <p:sp>
          <p:nvSpPr>
            <p:cNvPr id="170" name=""/>
            <p:cNvSpPr/>
            <p:nvPr/>
          </p:nvSpPr>
          <p:spPr>
            <a:xfrm>
              <a:off x="762120" y="4114800"/>
              <a:ext cx="7315200" cy="366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dware (H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120" y="3657600"/>
              <a:ext cx="6019560" cy="366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oard Support Package (B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120" y="3200400"/>
              <a:ext cx="6019560" cy="366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Operating System (R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20" y="2743200"/>
              <a:ext cx="523872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2819520"/>
              <a:ext cx="762120" cy="29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2819520"/>
              <a:ext cx="121932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                (DR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2362320"/>
              <a:ext cx="73152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 (AP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A42-B310-4F00-87E9-64091909A6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oftware Architecture with G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Software accesses the Operating system through the Generic Software Platform (GSP) and remains OS in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2362320"/>
            <a:ext cx="7315200" cy="3109680"/>
            <a:chOff x="685800" y="2362320"/>
            <a:chExt cx="7315200" cy="3109680"/>
          </a:xfrm>
        </p:grpSpPr>
        <p:sp>
          <p:nvSpPr>
            <p:cNvPr id="180" name=""/>
            <p:cNvSpPr/>
            <p:nvPr/>
          </p:nvSpPr>
          <p:spPr>
            <a:xfrm>
              <a:off x="685800" y="5105520"/>
              <a:ext cx="7315200" cy="36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4648320"/>
              <a:ext cx="6629400" cy="366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" y="4191120"/>
              <a:ext cx="5410080" cy="366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800" y="3657600"/>
              <a:ext cx="5486400" cy="442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2200" y="3657600"/>
              <a:ext cx="1143000" cy="90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3276720"/>
              <a:ext cx="662940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2362320"/>
              <a:ext cx="152388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9680" y="2819520"/>
              <a:ext cx="20574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2743200"/>
              <a:ext cx="1752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200" y="2819520"/>
              <a:ext cx="12193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91520" y="2819520"/>
              <a:ext cx="609480" cy="21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0" y="2362320"/>
              <a:ext cx="57150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17800" y="281952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3440" y="3276720"/>
              <a:ext cx="374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ic Software Platform (G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4114800"/>
              <a:ext cx="548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23623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0968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6708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200" y="45720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327672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9680" y="2362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7080" y="2819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2200" y="4114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3F7-5D8B-45D2-B0D9-966862019D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720" y="121896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oftware Architecture with G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800" y="2362320"/>
            <a:ext cx="7315200" cy="3109680"/>
            <a:chOff x="685800" y="2362320"/>
            <a:chExt cx="7315200" cy="3109680"/>
          </a:xfrm>
        </p:grpSpPr>
        <p:sp>
          <p:nvSpPr>
            <p:cNvPr id="206" name=""/>
            <p:cNvSpPr/>
            <p:nvPr/>
          </p:nvSpPr>
          <p:spPr>
            <a:xfrm>
              <a:off x="685800" y="5105520"/>
              <a:ext cx="7315200" cy="36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4648320"/>
              <a:ext cx="6638760" cy="366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4191120"/>
              <a:ext cx="5410080" cy="366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5800" y="3733920"/>
              <a:ext cx="541008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 Abstraction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200" y="3733920"/>
              <a:ext cx="1143000" cy="823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port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3276720"/>
              <a:ext cx="662940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2362320"/>
              <a:ext cx="1523880" cy="83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2819520"/>
              <a:ext cx="1981080" cy="380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3400" y="2743200"/>
              <a:ext cx="1752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2819520"/>
              <a:ext cx="12193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2819520"/>
              <a:ext cx="609480" cy="21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6000" y="2362320"/>
              <a:ext cx="57150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49480" y="281952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968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4114800"/>
              <a:ext cx="548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2200" y="45720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23623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327672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4114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7080" y="2819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9680" y="2362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0948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ddition to the RTOS abstraction GSP provides several services needed to run and test the application ent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BF0-F894-4442-9D56-C82FE0FD9B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3657600"/>
            <a:ext cx="4191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straction of Operating System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dependent diagn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dependent start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209680"/>
            <a:ext cx="6019920" cy="366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Abstra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35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" y="5707080"/>
              <a:ext cx="206676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85800" y="2209680"/>
            <a:ext cx="685800" cy="32004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77F-71F9-4B33-AA97-1EEA8E2D56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21:56:40Z</dcterms:created>
  <dc:creator>Ted Moody</dc:creator>
  <dc:description/>
  <dc:language>en-US</dc:language>
  <cp:lastModifiedBy>TI Employee</cp:lastModifiedBy>
  <dcterms:modified xsi:type="dcterms:W3CDTF">2005-04-12T08:08:55Z</dcterms:modified>
  <cp:revision>155</cp:revision>
  <dc:subject/>
  <dc:title>Preparing PPT for Presentation</dc:title>
</cp:coreProperties>
</file>